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33720" cy="4618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dt" idx="10"/>
          </p:nvPr>
        </p:nvSpPr>
        <p:spPr>
          <a:xfrm>
            <a:off x="3962160" y="-360"/>
            <a:ext cx="3033720" cy="4618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3280" cy="348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body"/>
          </p:nvPr>
        </p:nvSpPr>
        <p:spPr>
          <a:xfrm>
            <a:off x="698400" y="4410000"/>
            <a:ext cx="5600880" cy="4176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ftr" idx="11"/>
          </p:nvPr>
        </p:nvSpPr>
        <p:spPr>
          <a:xfrm>
            <a:off x="-360" y="8820000"/>
            <a:ext cx="3033720" cy="4622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 type="sldNum" idx="12"/>
          </p:nvPr>
        </p:nvSpPr>
        <p:spPr>
          <a:xfrm>
            <a:off x="3962160" y="8820000"/>
            <a:ext cx="3033720" cy="4622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9E9AB24D-023C-4E66-A2AA-EC2B5EBEA0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962520" y="8820000"/>
            <a:ext cx="303372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08599F3-A5AE-4945-9140-A461E25D92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3280" cy="34812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98400" y="4410000"/>
            <a:ext cx="56008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5D321-77E0-4CF6-8E25-DBB214BFC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3368C-1194-41B8-951C-87028EF57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8579A-69AC-4BE1-96A8-919C58F86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4B6BF-12B3-4024-978C-1B8A8EA19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2A520-AA77-40A4-8812-0FE0D2F9E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22AA7-D91A-402A-AED5-E2F84C6C9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D4863-9EA5-4A8B-9451-7C3F300FF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026EB-D54E-49E3-97C0-3E79997B2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83608-D979-4BFC-A5F0-95B0952C6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D1038-49BC-4290-9665-2161364D5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82A4C-746E-475A-9891-49323E6AF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BCD9B-73F6-4BEC-BA64-ADFDB40DB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A081A-6B34-418F-8D36-9AE55F78F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3EE1B-DF20-45ED-A136-458A7746E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44D79-6F21-474D-95D7-205FA1232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9A0DC-455D-44C9-9278-92CDC83B6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A9931-5B79-4F86-9AD6-26D0C43A9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948FCB-28DD-4CB8-8092-8C807C01C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B121B2-93A0-4120-9748-8123D670C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2B1D21-3947-4E86-8EBF-73A1CB2D2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4F1589-D949-439E-B1C1-82012E584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16D2B8-63A8-4050-B4B2-E79B43D53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6CFE4-2136-4E26-9E7B-851E3342B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C35F07-D3F1-4575-ADBD-F1C9DAE21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B50892-5AB3-419F-AE88-094095ED1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0E482B-4CF1-40BC-A2AA-119C73E69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B8259A-ABC1-4D20-AB73-A1054D604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94A3F0-D1FF-4AC7-ABA9-B828EBD93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5D24B8-1646-4540-95EA-FE0053BBC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8DADA1-EC2B-43DB-AE18-C919F44CB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F5766-8097-4D40-A50F-1F3184120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DEB96-B14C-461C-AE24-AD336E071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F193E-C559-4E18-AD29-0D8FBB715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86FDD-1BFF-4152-B28B-F06C34BA0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46BFB-0DCF-414F-BB8B-777378339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82A14-00D7-423A-9DF2-C4EA44CC5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AA341-52EB-4B58-B973-52BBABBFBF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7" descr="slide3a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" name="Rectangle 9"/>
          <p:cNvSpPr/>
          <p:nvPr/>
        </p:nvSpPr>
        <p:spPr>
          <a:xfrm>
            <a:off x="4356000" y="189000"/>
            <a:ext cx="4788000" cy="93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CFE Background template"/>
          <p:cNvPicPr/>
          <p:nvPr/>
        </p:nvPicPr>
        <p:blipFill>
          <a:blip r:embed="rId3"/>
          <a:stretch/>
        </p:blipFill>
        <p:spPr>
          <a:xfrm>
            <a:off x="-252360" y="-355680"/>
            <a:ext cx="9937800" cy="6016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C2EC5-9CBE-457A-8EEE-00F7A7E52D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8" descr="slide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D485C-DE46-4AE6-83E3-9AA600E8DC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9528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urriculum for Excellence Qualific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28760" y="2071440"/>
            <a:ext cx="8229600" cy="31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Dr Lena Gr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Dr John Al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Scottish Qualifications Autho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56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Arial"/>
              </a:rPr>
              <a:t>New smaller qualifications examp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68360" y="148428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Personal Development Un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Modern Languages for Work Purposes Un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Chinese Language Un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Small Employability Awards – in partnership with S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Safe Road Use Award – in partnership with D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Small awards for MCM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Arial"/>
              </a:rPr>
              <a:t>Qualifications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21428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Major qualifications developments in the past 30 y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have aimed to give us steady progress &amp; democratis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Greater inclusion, social justice and equity for learn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Greater teacher involvement, particularly in assess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Increased fairness and fitness for purpose in assess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More choice for centres, teachers/lecturers and learn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A more comprehensive and coherent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Increases in both level and number of qualifications att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99"/>
                </a:solidFill>
                <a:latin typeface="Arial"/>
              </a:rPr>
              <a:t>Courses at SCQF levels 4 and 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285560"/>
            <a:ext cx="8229600" cy="408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New qualifications at SCQF 4 and 5 shoul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Reflect the learning of the new curriculum, including its bread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Provide a seamless transition from Outcomes and Experiences, with increased emphasis on ski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Ensure that assessment supports, motivates and challenges learn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Be inclusive, coherent and easy to underst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Continue to maintain high standards and cred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Provide opportunities for learners to develop at different rates, at different times, in different areas across the curricul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99"/>
                </a:solidFill>
                <a:latin typeface="Arial"/>
              </a:rPr>
              <a:t>New Courses at levels 4 and 5: key feat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Replace Standard Grade (General and Credit) and Intermediate 1 and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Courses are unit ba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Units are internally assessed/not all 40 hours/not grad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SCQF level 4: </a:t>
            </a: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National 4</a:t>
            </a: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 – course award based on achieving units and coursework assessment  - SQA will quality assure the assessment. Course not gra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SCQF level 5: </a:t>
            </a: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National 5</a:t>
            </a: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 – course award based on achieving units, coursework assessment and external assessment by SQA – SQA will quality assure the internal assessment. Course gra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99"/>
                </a:solidFill>
                <a:latin typeface="Arial"/>
              </a:rPr>
              <a:t>Literacy and Numeracy Qualif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Arial"/>
              </a:rPr>
              <a:t>Available at SCQF levels 3, 4 and 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Arial"/>
              </a:rPr>
              <a:t>Portfolio externally assessed  by SQ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Arial"/>
              </a:rPr>
              <a:t>Different broad contex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Arial"/>
              </a:rPr>
              <a:t>Component based prof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Arial"/>
              </a:rPr>
              <a:t>Available from S3 onwards – for all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Arial"/>
              </a:rPr>
              <a:t>Also available for ad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Arial"/>
              </a:rPr>
              <a:t>SQA will work with partners to agree precise timing and details of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99"/>
                </a:solidFill>
                <a:latin typeface="Arial"/>
              </a:rPr>
              <a:t>Time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28760" y="1071360"/>
            <a:ext cx="8229600" cy="421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2009/10 and 2010/11 – new curricul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2011 - publication of Literacy and Numeracy qualification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2012 – publication of new qualifications levels 2 to 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2013 – publication of new qualifications level 7; last Standard Grades + current Access 2 &amp; 3; Literacy and Numeracy Qualifications availabl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2014 – first new qualifications at levels 2 to 5; existing National Courses for S5 and S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2015 – first new qualifications at level 6; existing National Courses for S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2016 – first new qualifications at level 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Next ste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urther engagement 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Prog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Core/essential skills for learning, life and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Assessment: coursework, internal assessment, portfolio in Lit/N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Format of Units/specif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Appe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Arial"/>
              </a:rPr>
              <a:t>What should we do in the interim and beyond?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68360" y="1557360"/>
            <a:ext cx="8229600" cy="46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What contribution can existing qualifications make to the development of the four capac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To what extent do current SQA Course and Unit specifications reflect the principles of Curriculum for Excellenc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What is the impact of qualifications on learning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What is the relationship between assessment and learning in existing qualifications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To what extent are Core Skills and essential skills, and skills for learning, life and work integrated within existing qualification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Arial"/>
              </a:rPr>
              <a:t>Other qualific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21428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Over 30,000 Uni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Skills for Work Cour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NQ Group Awa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HN Un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New Core Skills Un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New smaller awa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Scottish Baccalaureat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7T10:18:56Z</dcterms:created>
  <dc:creator>M Jack</dc:creator>
  <dc:description/>
  <dc:language>en-US</dc:language>
  <cp:lastModifiedBy>IT Services</cp:lastModifiedBy>
  <dcterms:modified xsi:type="dcterms:W3CDTF">2009-11-10T11:15:04Z</dcterms:modified>
  <cp:revision>480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Objective-Caveats">
    <vt:lpwstr/>
  </property>
  <property fmtid="{D5CDD505-2E9C-101B-9397-08002B2CF9AE}" pid="3" name="Objective-Classification">
    <vt:lpwstr>Not classified</vt:lpwstr>
  </property>
  <property fmtid="{D5CDD505-2E9C-101B-9397-08002B2CF9AE}" pid="4" name="Objective-Comment">
    <vt:lpwstr/>
  </property>
  <property fmtid="{D5CDD505-2E9C-101B-9397-08002B2CF9AE}" pid="5" name="Objective-CreationStamp">
    <vt:filetime>2007-11-01T14:43:28Z</vt:filetime>
  </property>
  <property fmtid="{D5CDD505-2E9C-101B-9397-08002B2CF9AE}" pid="6" name="Objective-Date Received [system]">
    <vt:lpwstr>&lt;not set&gt;</vt:lpwstr>
  </property>
  <property fmtid="{D5CDD505-2E9C-101B-9397-08002B2CF9AE}" pid="7" name="Objective-Date of Original [system]">
    <vt:lpwstr>&lt;not set&gt;</vt:lpwstr>
  </property>
  <property fmtid="{D5CDD505-2E9C-101B-9397-08002B2CF9AE}" pid="8" name="Objective-DatePublished">
    <vt:lpwstr/>
  </property>
  <property fmtid="{D5CDD505-2E9C-101B-9397-08002B2CF9AE}" pid="9" name="Objective-FileNumber">
    <vt:lpwstr/>
  </property>
  <property fmtid="{D5CDD505-2E9C-101B-9397-08002B2CF9AE}" pid="10" name="Objective-Id">
    <vt:lpwstr>B1667069</vt:lpwstr>
  </property>
  <property fmtid="{D5CDD505-2E9C-101B-9397-08002B2CF9AE}" pid="11" name="Objective-IsApproved">
    <vt:lpwstr>No</vt:lpwstr>
  </property>
  <property fmtid="{D5CDD505-2E9C-101B-9397-08002B2CF9AE}" pid="12" name="Objective-IsPublished">
    <vt:lpwstr>No</vt:lpwstr>
  </property>
  <property fmtid="{D5CDD505-2E9C-101B-9397-08002B2CF9AE}" pid="13" name="Objective-ModificationStamp">
    <vt:filetime>2007-11-01T14:43:32Z</vt:filetime>
  </property>
  <property fmtid="{D5CDD505-2E9C-101B-9397-08002B2CF9AE}" pid="14" name="Objective-Owner">
    <vt:lpwstr>Donachie, Peter P (U002013)</vt:lpwstr>
  </property>
  <property fmtid="{D5CDD505-2E9C-101B-9397-08002B2CF9AE}" pid="15" name="Objective-Parent">
    <vt:lpwstr>Donachie, Peter P (U002013)</vt:lpwstr>
  </property>
  <property fmtid="{D5CDD505-2E9C-101B-9397-08002B2CF9AE}" pid="16" name="Objective-Path">
    <vt:lpwstr>Donachie, Peter P (U002013):</vt:lpwstr>
  </property>
  <property fmtid="{D5CDD505-2E9C-101B-9397-08002B2CF9AE}" pid="17" name="Objective-State">
    <vt:lpwstr>Being Edited</vt:lpwstr>
  </property>
  <property fmtid="{D5CDD505-2E9C-101B-9397-08002B2CF9AE}" pid="18" name="Objective-Title">
    <vt:lpwstr>Curriculum for Excellence - General Presentation</vt:lpwstr>
  </property>
  <property fmtid="{D5CDD505-2E9C-101B-9397-08002B2CF9AE}" pid="19" name="Objective-Version">
    <vt:lpwstr>0.2</vt:lpwstr>
  </property>
  <property fmtid="{D5CDD505-2E9C-101B-9397-08002B2CF9AE}" pid="20" name="Objective-VersionComment">
    <vt:lpwstr>Version 2</vt:lpwstr>
  </property>
  <property fmtid="{D5CDD505-2E9C-101B-9397-08002B2CF9AE}" pid="21" name="Objective-VersionNumber">
    <vt:r8>2</vt:r8>
  </property>
</Properties>
</file>